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199B-E8BB-42D1-A4E1-B39E07A0B1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10C-61BB-42F5-9CD2-2110A329A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6526-9218-4EE7-AEF2-792533840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B86-CE32-4866-9BF4-842AA9471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9DD8-ADB5-438E-8B7D-B16436615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3E77-776A-4EAA-A3FA-620447E5F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64E-43E6-4428-ADBF-9843B2C45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97ED-67D6-45B6-AEC1-1399F2FE4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8828-3859-417E-A944-4528F3AF6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2A1-618F-46CD-9E0F-B75675E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B3C-4477-4F9D-9713-6F8580A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C15-5DC0-4329-8E85-B8ECFA71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A5E-605E-481E-BED8-E9C1ACEC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572-AF7F-4AAC-9A7D-9551A00E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DA6-F0DE-4031-ADE5-5CC1124B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9242-CAF5-4CD1-9164-4416651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6C0F-62BB-42E0-9E9F-180CBC8F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540D-9C09-4E16-8C07-44E620E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16C6-59E6-4CD9-B0E9-B7AA89C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AD58-6B7A-4000-B76E-ADB45B0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432-8C56-497D-8EE6-C1479058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A948-07A1-4926-B3C8-47846E5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28A-2B11-4E95-AC42-7B652BC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3DE-93A6-415F-AC10-917DAFE2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BC50-C90E-453A-A1B1-8F09AD29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5D69-A16E-4C8E-A70D-5293EA30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9DE9-040E-4E8C-986A-72852DDB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3EED-9647-45DD-AF18-433EE84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8542-C9AE-4313-993E-A2373B6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6CF7-A275-42B8-B1EB-F832065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8E45-B77E-4270-B69D-D668875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FD3-ACBF-4AE0-837D-21C85A9F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4EFF4-D5EA-41E5-8597-F21AFD0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6D83-4584-40CF-A3A7-5A3306D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1987-8AB5-408A-8EFA-1BF1CC3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665A-4FDC-40DE-BF08-539488B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2E07-F67D-4D28-BF12-EB87E766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92EB-04F0-46B2-9344-7F80A3C0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27DF-3DF6-4C3D-A57E-4E7FFF6B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D0E7-0538-4CE4-B332-AA44DEC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B8F9-0F24-4352-9B62-03515FF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9BC5-1E5B-4F67-B844-C029DC9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97D-CD49-4E73-B1D7-A2C68D7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C4868-919B-4ADB-918A-E40F618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70E9-D385-4F75-942B-22274E62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FCFC-58FB-4D34-B709-5B18038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433D-92EB-4314-8BAD-30BFA07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62BE-C09C-4D2F-AE2C-174CC09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8CA4-AF1F-450C-82AB-62C1A09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8581-0284-42C4-B9DC-C897905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1745-6A1C-4A80-B5A5-39CAD259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4B21-EC4F-4149-A1F6-CB724232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FC4-9965-4F2E-A27F-280F15D1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84E-E6E6-4D0B-BBFE-8FD49D62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5BA-7500-4BD1-8ABB-775FAB7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150-36AB-4EE7-A674-F5BA0AD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DBA-E24B-4330-9DE9-FF42CC6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18CD-D589-41CF-8FE0-DBE87FEF7C7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D92-4D8A-48C2-94F0-AA95FE2742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F59-7CB1-4ED2-88E9-4D0B484BF7F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C62-EC49-4A65-841B-8ECD8BEB885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163-A2B7-48F5-9AB1-05A707F1874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3DD-23C0-48E3-98BA-77E25FBEBBD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DEB-0052-4443-89F1-95FEE96BABE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2B69-9B2E-40E2-94DD-E19927BD01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llrin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nstantia"/>
              </a:rPr>
              <a:t>What are all living things made of?</a:t>
            </a:r>
            <a:endParaRPr b="0" lang="en-US" sz="6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karyotic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ell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27428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Prokaryotic cells are very simple and do not have a nucleus.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nstead of a nucleus, prokaryotic cells have a nucleoid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e only organelles that prokaryotic cells have are ribosom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4106880" y="0"/>
            <a:ext cx="5037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nstantia"/>
              </a:rPr>
              <a:t>Do prokaryotic cells have a nucleus?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nstantia"/>
              </a:rPr>
              <a:t>How are all prokaryotic cells similar?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ukaryotic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2280" y="2087280"/>
            <a:ext cx="868680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 u="sng">
                <a:solidFill>
                  <a:srgbClr val="000000"/>
                </a:solidFill>
                <a:uFillTx/>
                <a:latin typeface="Constantia"/>
              </a:rPr>
              <a:t>Eukaryotic cells are more complex and have a nucleus.  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 u="sng">
                <a:solidFill>
                  <a:srgbClr val="000000"/>
                </a:solidFill>
                <a:uFillTx/>
                <a:latin typeface="Constantia"/>
              </a:rPr>
              <a:t>They have a lot of organelles including ribosomes. 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5773680" y="0"/>
            <a:ext cx="337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Do eukaryotic cells have a nucleus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ow are all eukaryotic cells similar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11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nstantia"/>
              </a:rPr>
              <a:t>What similarities are there between prokaryotic and eukaryotic cells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11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nstantia"/>
              </a:rPr>
              <a:t>Is there diversity among cells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11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nstantia"/>
              </a:rPr>
              <a:t>How are prokaryotic and eukaryotic cells different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P1 – Which of these is a prokaryotic cell? Why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304920" y="220968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7620120" y="182880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P2 – Which of these is a eukaryotic cell? Why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304920" y="220968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7620120" y="182880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200"/>
            </a:br>
            <a:r>
              <a:rPr b="0" lang="en-US" sz="4200" spc="-1" strike="noStrike">
                <a:solidFill>
                  <a:srgbClr val="04617b"/>
                </a:solidFill>
                <a:latin typeface="Calibri"/>
              </a:rPr>
              <a:t>GP3 – What do eukaryotic cells have that prokaryotic cells do not have?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4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617b"/>
                </a:solidFill>
                <a:latin typeface="Constantia"/>
              </a:rPr>
              <a:t>What do eukaryotic and prokaryotic cells both have?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5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3428640"/>
            <a:ext cx="74674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4617b"/>
                </a:solidFill>
                <a:latin typeface="Constantia"/>
              </a:rPr>
              <a:t>Is this a prokaryotic cell or eukaryotic cell?</a:t>
            </a:r>
            <a:endParaRPr b="0" lang="en-US" sz="6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2274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8"/>
          <p:cNvSpPr/>
          <p:nvPr/>
        </p:nvSpPr>
        <p:spPr>
          <a:xfrm>
            <a:off x="4191120" y="78912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bo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5676840" y="666720"/>
            <a:ext cx="163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nucleol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ticipatory S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enda and Announc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g goal 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put – notes on prokaryotic and eukaryotic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uided Practice – Cell ID team g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ependent Practice – Work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osing – Journal Ref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4768920" y="2133720"/>
            <a:ext cx="4375080" cy="4483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380880" y="457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72960" y="1828800"/>
            <a:ext cx="419904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4617b"/>
                </a:solidFill>
                <a:latin typeface="Constantia"/>
              </a:rPr>
              <a:t>Is this a prokaryotic or eukaryotic cell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4617b"/>
                </a:solidFill>
                <a:latin typeface="Constantia"/>
              </a:rPr>
              <a:t>You look through a microscope and see a cell that has chloroplast, a cell wall, a Golgi apparatus, and a nucleus.  Should you classify this cell as prokaryotic or eukaryotic?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nstantia"/>
              </a:rPr>
              <a:t>How do scientist classify things (refer to our big ideas)?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04617b"/>
                </a:solidFill>
                <a:uFillTx/>
                <a:latin typeface="Calibri"/>
              </a:rPr>
              <a:t>3.1 Independent Practice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ur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2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4617b"/>
                </a:solidFill>
                <a:latin typeface="Constantia"/>
              </a:rPr>
              <a:t>In your journal section, write a reflection on what you learned today, what was interesting, and what you though of class.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nounc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nstantia"/>
              </a:rPr>
              <a:t>Binder Organization – Move all of your notes from classwork into study aids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nstantia"/>
              </a:rPr>
              <a:t>YOU SHOULD HAVE </a:t>
            </a:r>
            <a:r>
              <a:rPr b="1" lang="en-US" sz="4200" spc="-1" strike="noStrike">
                <a:solidFill>
                  <a:srgbClr val="000000"/>
                </a:solidFill>
                <a:latin typeface="Constantia"/>
              </a:rPr>
              <a:t>NO </a:t>
            </a:r>
            <a:r>
              <a:rPr b="0" lang="en-US" sz="4200" spc="-1" strike="noStrike">
                <a:solidFill>
                  <a:srgbClr val="000000"/>
                </a:solidFill>
                <a:latin typeface="Constantia"/>
              </a:rPr>
              <a:t>NOTES IN YOUR CLASSWORK SECTION NOW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fter today, you will be able to identify that scientists classify things based on patterns, similarity, and diversity. You will also be able to classify cells and explain that a eukaryotic cell has a nucleus and a prokaryotic cell does not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Goal Conn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0% Mastery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9 weeks we had 77.8%  71.7%  74.4%  52.8% on our learning go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9 weeks we will make it to 8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Idea of Science – Patterns, Similarity, and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be able to write a short answer response defining this big idea and giving an exam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– Well organized binders increase your ability to find and study your notes. (It also means you will earn your team more points on review questi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ig Idea: Patterns, Similarity, and Divers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onstantia"/>
              </a:rPr>
              <a:t>Scientists classify things based on patterns, similarity, and diversity.</a:t>
            </a:r>
            <a:endParaRPr b="0" lang="en-US" sz="4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onstantia"/>
              </a:rPr>
              <a:t>In nature, some things occur repeatedly creating a pattern.</a:t>
            </a:r>
            <a:endParaRPr b="0" lang="en-US" sz="4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ig Idea: Patterns, Similarity, and Divers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Similarity means that things are alike in some way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versity means that things are different in some way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1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nstantia"/>
              </a:rPr>
              <a:t>What are patterns?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914400" indent="-914400">
              <a:spcBef>
                <a:spcPts val="11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nstantia"/>
              </a:rPr>
              <a:t>What does it mean if things are similar?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914400" indent="-914400">
              <a:spcBef>
                <a:spcPts val="11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nstantia"/>
              </a:rPr>
              <a:t>What does it mean if thing are diverse?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4:57:43Z</dcterms:created>
  <dc:creator>Cristi</dc:creator>
  <dc:description/>
  <dc:language>en-US</dc:language>
  <cp:lastModifiedBy>Caroline Roth</cp:lastModifiedBy>
  <dcterms:modified xsi:type="dcterms:W3CDTF">2010-10-11T20:22:40Z</dcterms:modified>
  <cp:revision>11</cp:revision>
  <dc:subject/>
  <dc:title>The Cell</dc:title>
</cp:coreProperties>
</file>